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556-15A3-478C-BA03-D9D648D3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2A2-986E-4E3B-9AAA-5DEB538C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303-BB0A-46C0-944E-DAB531C7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194-0AB7-4B69-8E09-7897E11B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C6D-88B1-46C7-9F99-99CBF49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66E-017F-469E-9788-49AFFF75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949-0F0A-4E61-A9C4-A3E4EAE8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2F7-2B0E-4794-820C-A8AF2FF6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2ED-B01E-41DB-9CEE-A6ADBAC7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242-3615-413F-9D81-B44F95F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C6C-6D23-44F4-BF1D-ACD7060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D17-EE6F-488F-9B92-F4DC98DB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FBD-C44E-4656-B3E5-5C1B01DC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4:49:57Z</dcterms:created>
  <dc:creator>Patrick Mooney</dc:creator>
  <dc:description/>
  <dc:language>en-US</dc:language>
  <cp:lastModifiedBy>Patrick Mooney</cp:lastModifiedBy>
  <dcterms:modified xsi:type="dcterms:W3CDTF">2009-09-11T15:10:26Z</dcterms:modified>
  <cp:revision>3</cp:revision>
  <dc:subject/>
  <dc:title>Slide 1</dc:title>
</cp:coreProperties>
</file>